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DFDD-0AFB-4C55-A9E1-0524E679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A7A-E280-4031-9E59-A4390F6A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53008-59B9-4544-8A90-A77389AB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D2D8-DB0D-4487-9D9C-1EFA71C9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F218D-B89C-4898-9B06-DFB7809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76FFC-5AA7-4725-B484-1901DEAD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391D-23A9-464E-983A-E921B79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64988-24F6-4D0A-A780-850A8031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6401-E02F-4C62-A898-9628EC69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7DC1E-0F89-43C6-8F9D-C40990F2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BB906-213C-4EE2-AA5B-E571B350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57534-B67C-4FDD-80D8-3DD716A2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3D9-F610-4BF7-BD55-71D97377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F5F2-0CC4-4681-BBE4-AC463B74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E204E-2F14-43D0-B342-4FA6C854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491DF-3973-4A38-B050-4FCC57A3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F3B28-31C2-4676-A4F2-4F5E692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CBFF1-7398-44FE-BA49-D0198353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D31A7-3C46-489B-83D2-1B0C60FF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609E8-B4A5-4CF5-BBD3-C0265167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8E949-A845-49F6-8136-A98BC71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E8114-01F3-43CB-84E2-31A261A3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50B0D-BB21-45E0-8251-F04D2490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932-B724-4AFB-9497-BE1A3147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710BB-50C2-4C46-910E-AF791A64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1B94-8641-4286-B21C-739778A9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D104A-6698-448C-A904-2095C33B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E5E37-92F5-4D3B-860C-6F51DC0F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A466FD-A4C2-4B81-B5B9-B8BD40E7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DC51D-ED8C-4B65-8EF1-1236E81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B4C4E-2E94-4D9E-B8AC-6DD72CF9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B5E8F-CACB-4410-9013-2727A0C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DE43B-E798-484E-80FC-3D279E53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79BA2-3D53-4C81-A7FE-962B7BBE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692A-C8F3-4FB2-BE15-32244DFD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04D4F-C9D4-4A81-B453-3DC1703D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9716A-C518-4221-AE91-386AA867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D446F-0218-41A6-B4FF-5877FF69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BEC72-172D-4DEC-931C-8DE9A21CA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59888-B92C-40C6-85E9-F4E8F48A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68F7A-2B1C-47AC-9CC5-07798C0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24047-1A9E-4E25-98E3-DD4F7D27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4B996-E55E-40C8-9694-DC523E5E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12A58-8C49-4027-A54A-F8B67BB7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74E6A-8A3C-4E3D-9A19-B2157569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EC7D7-9129-4ED7-A111-D0B4421D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5908C-8A98-4A1A-82E3-EB986CC7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24211-6BCC-43F9-A7A2-559BDE90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D932E-A950-4F97-A581-C5E8404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F4BCE-AC88-446A-A169-3CAB7E0F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80940-FE69-44E5-A0D2-73993154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6A20-60E9-4B3C-89B9-E1D9CBE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CAFB-F17E-4604-BD4D-6841D14A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3437-AC39-4238-AC44-E31D57A8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C80B-456B-4F78-B79E-E0D43720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FDFC-A9A6-417B-B8DC-42E809AB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204-BD69-4E09-A22B-20D24F71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904E-4DEB-4081-BFEB-56D7D9E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7987-995E-4307-95BA-CEEEB266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5C2D-97FA-48DC-8850-06496A1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6591-168B-4114-ABEB-2CC1A51A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579D-69E5-4F00-B588-226F0E9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382B-DD7D-44E5-A3CE-29AD32C4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E64D-06A7-4D4F-8F52-DF38C44B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A4F7-4BDB-4A89-8AF2-645BD5E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29C3-3811-4754-A371-193BC95F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FD067-D931-4B82-B31B-6DAF0790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EB1-C16A-41E3-BBEB-79A811A6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CA4C9-C6B4-426F-BBCA-9080F11C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8C49-6C5B-499D-9849-1F6ADBE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46A7B-0D46-4F61-B5C8-F314FAE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2B52-8C98-4845-8996-44D85AA5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B6AEE-E965-4B0F-9346-0E58075DC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7A5F-1344-4CA1-BD52-710EE63A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4EFCB-D5C0-4EF0-8141-BF51E523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C74D8-E908-4666-9FD7-D840DA20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8B71-5C56-416E-BE5E-4A11AF0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1D65E-3E17-46C2-8039-7810883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84B-FF6D-49E8-A491-F9864828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053AE-0444-4FB4-B2ED-81A43B6E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9AF97-8B84-4009-9C49-9937CF0C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D687F-E8C2-4EE4-A777-74FAE7B8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E13C9-210D-4DBF-8968-C5A2D54E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F8F7-6A8E-4BAB-AE12-C956F84D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56034-12B0-4846-B877-BCAC07E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F43C7-1C22-4022-959F-A98D118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23BD5-F7CE-48C5-8124-7BDBA7C3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5E9AC-74F5-4142-8146-7EB7C541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FC64-32BD-4AC8-8D72-EAB16D77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F432-D634-4C44-841D-8E37D15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1436-6D7A-4EC7-82B6-41A872F3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B365C-EDE3-46C1-A5B4-14C2BB1F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F9AFD-409F-41F5-A632-2559C677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0E5B-E400-4810-AC25-E71BCD8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BD60B-4FD1-449C-A239-E4C5B5EF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F08F5-70C7-438C-AE49-B2C9C7FB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A7159-925D-436C-828F-5B6C7B4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69355-401C-406C-BDAC-840B198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1BF6-30D7-430D-A006-40A9AB5C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779AB-91B1-4C64-BE95-E54AA27E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F1F-C5EB-4C7D-B4CC-FEB35AF5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1EC35-1534-438C-8EFC-6558228D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58633-E2BE-4CB0-B1CE-3D1CCCCC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2731D-2ACB-42CB-AABF-549292CA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F7D3-ACB4-4A8B-AB7F-E988CD96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0BCF-AE97-4FA3-BDFD-5BB23124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004CD-C3FC-4363-BB21-FE97D5A7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DED1E-A767-4C59-8CB5-FB74244E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0629A-9B61-420B-AADB-05E607E9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46CBB-6E1F-4D52-A2F8-64C3DC1D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2334D-80D5-40F6-9D2E-2D88A88F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49A-4569-4D14-B803-8B63A2C3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2F773-A593-4280-AA73-DF542F5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DCFBB-ADFE-482F-9266-AC0C1900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CB852-45D4-4EF4-8E6B-57907BBD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5EA9A-2088-480B-A81F-4A97FD13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238F6-91FA-4592-90C0-ED234AC6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D2B3-AA07-4CB7-99A7-FEAE3954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0B1F0-C38C-4C2F-930B-13EAF5D0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FA424-256D-4DC2-8011-921E335B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A0C6D-0788-43CE-9541-E28F8385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A6131-125E-4940-A8C6-75CAAC96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9C90-CD3B-402B-9B57-0C010F2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7995-F93A-4D14-8F07-CFB673BF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C5BFA-9874-47AB-8C61-06C3A3E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1EE13-3358-4972-BCC1-B728D2B1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BAA09-0543-4EC6-A64A-B13B9ED0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A58A-783C-4336-AE88-C00E8106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B7305-CBF1-4BEE-AEF7-DB121229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962E7-D884-453F-A70A-5AF900D7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CC5B-4E60-43CB-BF89-0662F030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8E0AA-3E34-40FC-9C9E-E67AEB7A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6F266-F0A7-41F3-8948-E8BEC5C0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1EA-C8E1-429C-AA81-43760306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7A8F0-78E5-4953-9595-DB180BED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86E1-39D8-48A8-87A4-BE694D47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5E709-14A1-4967-B518-81EF05F9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1379A-9FD9-4FE9-A6B3-187B8057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B7E45-094B-40B2-992A-90434794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1B383-FFED-4559-BA7C-FF30F952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A9BDD-16B2-4A6F-9FE4-10487E99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FEDD5-51DB-4393-9C6F-CCFF3796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77366-6BEF-41E0-8781-40AFA4A9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2868E-73FB-4859-B2FB-BB8D493A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42E8-6B03-4C77-B9BD-93D6FDE346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DAD4-24A0-4782-A245-741DEF53EC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A078-D3DB-42C6-BF70-40C7E933B3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83D8-3767-465F-9DF6-D2DA4DF050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97EC-A9B9-4C28-B149-EDEA92E042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64B-8400-46E1-B09F-59F9F0FDD9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2B0-4378-419F-BEBF-C6426F3B3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68B7-E88F-43F1-A729-143955FC5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5849-E6B4-4C4F-A33D-315650DF75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0A7-18D9-4087-A361-C6A0DCB1AC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D550-87AA-4C95-A71D-4CB1ADB9A0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46EC-C814-4523-A75D-4CD202086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учреждение «Комплексный центр социального обслуживания населения Черепановского района Новосибирской области »</a:t>
            </a:r>
            <a:br>
              <a:rPr sz="1400"/>
            </a:b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лиал «Отделение реабилитации детей с ограниченными возможностями «Голуб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7" descr="S7300632"/>
          <p:cNvPicPr/>
          <p:nvPr/>
        </p:nvPicPr>
        <p:blipFill>
          <a:blip r:embed="rId1"/>
          <a:stretch/>
        </p:blipFill>
        <p:spPr>
          <a:xfrm>
            <a:off x="2268360" y="1341360"/>
            <a:ext cx="439128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психологическая реабили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ая корре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ие тренинг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консультирование и оказание разносторонней психологической помощ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окультурная реабили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8" descr="SAM_0492"/>
          <p:cNvPicPr/>
          <p:nvPr/>
        </p:nvPicPr>
        <p:blipFill>
          <a:blip r:embed="rId1"/>
          <a:stretch/>
        </p:blipFill>
        <p:spPr>
          <a:xfrm>
            <a:off x="2771640" y="1197000"/>
            <a:ext cx="2754360" cy="3672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S7301529"/>
          <p:cNvPicPr/>
          <p:nvPr/>
        </p:nvPicPr>
        <p:blipFill>
          <a:blip r:embed="rId2"/>
          <a:stretch/>
        </p:blipFill>
        <p:spPr>
          <a:xfrm>
            <a:off x="5219640" y="1413000"/>
            <a:ext cx="3600360" cy="32050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0" descr=""/>
          <p:cNvPicPr/>
          <p:nvPr/>
        </p:nvPicPr>
        <p:blipFill>
          <a:blip r:embed="rId3"/>
          <a:stretch/>
        </p:blipFill>
        <p:spPr>
          <a:xfrm>
            <a:off x="5435640" y="4581360"/>
            <a:ext cx="3708360" cy="21132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3" descr="SAM_0396"/>
          <p:cNvPicPr/>
          <p:nvPr/>
        </p:nvPicPr>
        <p:blipFill>
          <a:blip r:embed="rId4"/>
          <a:stretch/>
        </p:blipFill>
        <p:spPr>
          <a:xfrm>
            <a:off x="108000" y="4073400"/>
            <a:ext cx="4176720" cy="2784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7" descr=""/>
          <p:cNvPicPr/>
          <p:nvPr/>
        </p:nvPicPr>
        <p:blipFill>
          <a:blip r:embed="rId5"/>
          <a:stretch/>
        </p:blipFill>
        <p:spPr>
          <a:xfrm>
            <a:off x="0" y="1413000"/>
            <a:ext cx="2771640" cy="184608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11"/>
          <p:cNvPicPr/>
          <p:nvPr/>
        </p:nvPicPr>
        <p:blipFill>
          <a:blip r:embed="rId1"/>
          <a:stretch/>
        </p:blipFill>
        <p:spPr>
          <a:xfrm>
            <a:off x="179280" y="189000"/>
            <a:ext cx="4105440" cy="30798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6" descr="S7302140"/>
          <p:cNvPicPr/>
          <p:nvPr/>
        </p:nvPicPr>
        <p:blipFill>
          <a:blip r:embed="rId2"/>
          <a:stretch/>
        </p:blipFill>
        <p:spPr>
          <a:xfrm>
            <a:off x="4211640" y="0"/>
            <a:ext cx="4537080" cy="35812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7" descr="S7302186"/>
          <p:cNvPicPr/>
          <p:nvPr/>
        </p:nvPicPr>
        <p:blipFill>
          <a:blip r:embed="rId3"/>
          <a:stretch/>
        </p:blipFill>
        <p:spPr>
          <a:xfrm>
            <a:off x="324000" y="357336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S7302409"/>
          <p:cNvPicPr/>
          <p:nvPr/>
        </p:nvPicPr>
        <p:blipFill>
          <a:blip r:embed="rId4"/>
          <a:stretch/>
        </p:blipFill>
        <p:spPr>
          <a:xfrm>
            <a:off x="4610160" y="3573360"/>
            <a:ext cx="4533840" cy="328464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бильная бригад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5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5184720" cy="3359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6" descr=""/>
          <p:cNvPicPr/>
          <p:nvPr/>
        </p:nvPicPr>
        <p:blipFill>
          <a:blip r:embed="rId2"/>
          <a:stretch/>
        </p:blipFill>
        <p:spPr>
          <a:xfrm>
            <a:off x="4863960" y="1125360"/>
            <a:ext cx="4280040" cy="3210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3"/>
          <a:stretch/>
        </p:blipFill>
        <p:spPr>
          <a:xfrm>
            <a:off x="2987640" y="4133880"/>
            <a:ext cx="3632400" cy="27241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 семей, воспитывающих детей с ограниченными возможностям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имеющих статус ребенок-инвали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4"/>
          <p:cNvGraphicFramePr/>
          <p:nvPr/>
        </p:nvGraphicFramePr>
        <p:xfrm>
          <a:off x="1116000" y="1413000"/>
          <a:ext cx="7632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413000"/>
                    <a:ext cx="7632720" cy="49687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3203640" y="2133720"/>
            <a:ext cx="2735280" cy="29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а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и опро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беседы и консуль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ис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13"/>
          <p:cNvGrpSpPr/>
          <p:nvPr/>
        </p:nvGrpSpPr>
        <p:grpSpPr>
          <a:xfrm>
            <a:off x="324000" y="549360"/>
            <a:ext cx="8640720" cy="4608360"/>
            <a:chOff x="324000" y="549360"/>
            <a:chExt cx="8640720" cy="4608360"/>
          </a:xfrm>
        </p:grpSpPr>
        <p:sp>
          <p:nvSpPr>
            <p:cNvPr id="565" name="Rectangle 4"/>
            <p:cNvSpPr/>
            <p:nvPr/>
          </p:nvSpPr>
          <p:spPr>
            <a:xfrm>
              <a:off x="2050920" y="549360"/>
              <a:ext cx="460872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ормы работы с семь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"/>
            <p:cNvSpPr/>
            <p:nvPr/>
          </p:nvSpPr>
          <p:spPr>
            <a:xfrm>
              <a:off x="324000" y="2133720"/>
              <a:ext cx="2663640" cy="302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ллективные форм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взаимодейств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одитель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брани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-проведение детски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аздников и досугов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7"/>
            <p:cNvSpPr/>
            <p:nvPr/>
          </p:nvSpPr>
          <p:spPr>
            <a:xfrm>
              <a:off x="6156360" y="2133720"/>
              <a:ext cx="2808360" cy="2879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аглядно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обеспечение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формацио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тенды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ыставки детских работ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вместные занятия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8"/>
            <p:cNvSpPr/>
            <p:nvPr/>
          </p:nvSpPr>
          <p:spPr>
            <a:xfrm>
              <a:off x="4356000" y="1341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9"/>
            <p:cNvSpPr/>
            <p:nvPr/>
          </p:nvSpPr>
          <p:spPr>
            <a:xfrm>
              <a:off x="1619280" y="1700280"/>
              <a:ext cx="590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>
              <a:off x="1619280" y="1700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7524720" y="1700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4572000" y="170028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30"/>
          <p:cNvGrpSpPr/>
          <p:nvPr/>
        </p:nvGrpSpPr>
        <p:grpSpPr>
          <a:xfrm>
            <a:off x="468360" y="549360"/>
            <a:ext cx="8530920" cy="5471640"/>
            <a:chOff x="468360" y="549360"/>
            <a:chExt cx="8530920" cy="5471640"/>
          </a:xfrm>
        </p:grpSpPr>
        <p:sp>
          <p:nvSpPr>
            <p:cNvPr id="574" name="Rectangle 4"/>
            <p:cNvSpPr/>
            <p:nvPr/>
          </p:nvSpPr>
          <p:spPr>
            <a:xfrm>
              <a:off x="2405160" y="549360"/>
              <a:ext cx="4547160" cy="489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дивидуальная работа с семь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5"/>
            <p:cNvSpPr/>
            <p:nvPr/>
          </p:nvSpPr>
          <p:spPr>
            <a:xfrm>
              <a:off x="840960" y="1283760"/>
              <a:ext cx="17132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ыявл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бл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требносте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нтерес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мь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"/>
            <p:cNvSpPr/>
            <p:nvPr/>
          </p:nvSpPr>
          <p:spPr>
            <a:xfrm>
              <a:off x="6727320" y="1283760"/>
              <a:ext cx="186300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з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сихологиче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климата семь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нутрисемейных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заимоотноше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3597840" y="1937520"/>
              <a:ext cx="1936800" cy="130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оставление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ндивидуального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лана работ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 семьей  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учетом проблем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факторов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неблагополуч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9"/>
            <p:cNvSpPr/>
            <p:nvPr/>
          </p:nvSpPr>
          <p:spPr>
            <a:xfrm>
              <a:off x="468360" y="3734640"/>
              <a:ext cx="2905920" cy="89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оведение мероприят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о предупреждению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смягчению, ликвидации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проблем и негативных влияни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0"/>
            <p:cNvSpPr/>
            <p:nvPr/>
          </p:nvSpPr>
          <p:spPr>
            <a:xfrm>
              <a:off x="2704320" y="5122800"/>
              <a:ext cx="3316680" cy="89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тимулирование членов семь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 самопомощи, укреплению собстве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ил с целью использования имеющих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 них резервов для преодол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облем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"/>
            <p:cNvSpPr/>
            <p:nvPr/>
          </p:nvSpPr>
          <p:spPr>
            <a:xfrm>
              <a:off x="5534640" y="3734640"/>
              <a:ext cx="3464640" cy="979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е членов семьи элементам самомассажа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учение членов семьи построению конструктивн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ето-родительских отношений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Консультирование специалистами родителей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нтересующим их вопросам;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2"/>
            <p:cNvSpPr/>
            <p:nvPr/>
          </p:nvSpPr>
          <p:spPr>
            <a:xfrm flipH="1">
              <a:off x="1585440" y="794160"/>
              <a:ext cx="8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13"/>
            <p:cNvSpPr/>
            <p:nvPr/>
          </p:nvSpPr>
          <p:spPr>
            <a:xfrm flipH="1">
              <a:off x="6950880" y="794160"/>
              <a:ext cx="81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14"/>
            <p:cNvSpPr/>
            <p:nvPr/>
          </p:nvSpPr>
          <p:spPr>
            <a:xfrm>
              <a:off x="1585440" y="794160"/>
              <a:ext cx="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15"/>
            <p:cNvSpPr/>
            <p:nvPr/>
          </p:nvSpPr>
          <p:spPr>
            <a:xfrm>
              <a:off x="7770600" y="794160"/>
              <a:ext cx="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16"/>
            <p:cNvSpPr/>
            <p:nvPr/>
          </p:nvSpPr>
          <p:spPr>
            <a:xfrm>
              <a:off x="2554560" y="2263320"/>
              <a:ext cx="10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17"/>
            <p:cNvSpPr/>
            <p:nvPr/>
          </p:nvSpPr>
          <p:spPr>
            <a:xfrm>
              <a:off x="5534640" y="234612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22"/>
            <p:cNvSpPr/>
            <p:nvPr/>
          </p:nvSpPr>
          <p:spPr>
            <a:xfrm>
              <a:off x="4566960" y="324468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23"/>
            <p:cNvSpPr/>
            <p:nvPr/>
          </p:nvSpPr>
          <p:spPr>
            <a:xfrm>
              <a:off x="1884240" y="3489480"/>
              <a:ext cx="528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4"/>
            <p:cNvSpPr/>
            <p:nvPr/>
          </p:nvSpPr>
          <p:spPr>
            <a:xfrm>
              <a:off x="1884240" y="348948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25"/>
            <p:cNvSpPr/>
            <p:nvPr/>
          </p:nvSpPr>
          <p:spPr>
            <a:xfrm>
              <a:off x="7174440" y="3489480"/>
              <a:ext cx="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26"/>
            <p:cNvSpPr/>
            <p:nvPr/>
          </p:nvSpPr>
          <p:spPr>
            <a:xfrm>
              <a:off x="1734840" y="4632840"/>
              <a:ext cx="0" cy="8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27"/>
            <p:cNvSpPr/>
            <p:nvPr/>
          </p:nvSpPr>
          <p:spPr>
            <a:xfrm>
              <a:off x="7026480" y="4714200"/>
              <a:ext cx="0" cy="8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28"/>
            <p:cNvSpPr/>
            <p:nvPr/>
          </p:nvSpPr>
          <p:spPr>
            <a:xfrm>
              <a:off x="1734840" y="5531400"/>
              <a:ext cx="96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29"/>
            <p:cNvSpPr/>
            <p:nvPr/>
          </p:nvSpPr>
          <p:spPr>
            <a:xfrm>
              <a:off x="5982840" y="5612400"/>
              <a:ext cx="10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S7300610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S7300611"/>
          <p:cNvPicPr/>
          <p:nvPr/>
        </p:nvPicPr>
        <p:blipFill>
          <a:blip r:embed="rId2"/>
          <a:stretch/>
        </p:blipFill>
        <p:spPr>
          <a:xfrm>
            <a:off x="1476360" y="3141720"/>
            <a:ext cx="4535640" cy="3402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S7300606"/>
          <p:cNvPicPr/>
          <p:nvPr/>
        </p:nvPicPr>
        <p:blipFill>
          <a:blip r:embed="rId3"/>
          <a:stretch/>
        </p:blipFill>
        <p:spPr>
          <a:xfrm>
            <a:off x="4788000" y="69228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6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6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8935920" cy="607680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Диаграмма 3" descr=""/>
          <p:cNvPicPr/>
          <p:nvPr/>
        </p:nvPicPr>
        <p:blipFill>
          <a:blip r:embed="rId1"/>
          <a:stretch/>
        </p:blipFill>
        <p:spPr>
          <a:xfrm>
            <a:off x="920880" y="420840"/>
            <a:ext cx="7656480" cy="465768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работы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азание социальной помощи детям с ограниченными возможностями и детям с особенностями развития, по средствам многосторонней психолого-педагогической и социально-медицинской коррекции, приводящее в конечном итоге к успешной социализации ребенка и как следствие к интеграции его в общество здоровых сверстников, и созданию здорового микроклимата в сем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уги, которые родители хотели получать в перспективе (по данным анкетирования, опрошено 15 челов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Object 8"/>
          <p:cNvGraphicFramePr/>
          <p:nvPr/>
        </p:nvGraphicFramePr>
        <p:xfrm>
          <a:off x="826920" y="1268280"/>
          <a:ext cx="741708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417080" cy="532944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55"/>
          <p:cNvPicPr/>
          <p:nvPr/>
        </p:nvPicPr>
        <p:blipFill>
          <a:blip r:embed="rId1"/>
          <a:stretch/>
        </p:blipFill>
        <p:spPr>
          <a:xfrm>
            <a:off x="250920" y="2060640"/>
            <a:ext cx="5292720" cy="4016160"/>
          </a:xfrm>
          <a:prstGeom prst="rect">
            <a:avLst/>
          </a:prstGeom>
          <a:ln w="0">
            <a:noFill/>
          </a:ln>
        </p:spPr>
      </p:pic>
      <p:sp>
        <p:nvSpPr>
          <p:cNvPr id="604" name="WordArt 3"/>
          <p:cNvSpPr txBox="1"/>
          <p:nvPr/>
        </p:nvSpPr>
        <p:spPr>
          <a:xfrm>
            <a:off x="0" y="404640"/>
            <a:ext cx="914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ть, любить, и быть счастливым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лжен каждый ребенок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тянем им руку помощи и поможем преодолеть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ные жизненные испытания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5" name="Picture 5" descr=""/>
          <p:cNvPicPr/>
          <p:nvPr/>
        </p:nvPicPr>
        <p:blipFill>
          <a:blip r:embed="rId2"/>
          <a:stretch/>
        </p:blipFill>
        <p:spPr>
          <a:xfrm>
            <a:off x="4214880" y="3160800"/>
            <a:ext cx="4929120" cy="369720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Cambri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явление,  учет семей и  детей, нуждающихся в получении реабилитационных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работка планов и реализация программ реабилитации детей-инвали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и обеспечение реабилитационными мероприятиями  по направлениям: социально-педагогическая, социально-медицинская, социально- психологическая, социокультурной  реабилитации, социально- бытовой ориентаци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я и обеспечение реабилитационными мероприятиями  по направлениям: социально-педагогической, социально-медицинской, психолого – социальной, социокультурной реабилитации, социально- бытовой ориентации на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намический контроль за процессом реабили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сстановление социального статуса ребенка- инвалида и его семьи путем проведения различных социальн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действие в адаптации и интеграции детей с особенностями в развитии в общество здоровых свер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учение родителей основам реабилитации, включая непосредственное участие родителей в реабилитационном проце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уктура заболеваний детей, прошедши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урс реабилитации в 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0" name="Object 6"/>
          <p:cNvGraphicFramePr/>
          <p:nvPr/>
        </p:nvGraphicFramePr>
        <p:xfrm>
          <a:off x="395280" y="1413000"/>
          <a:ext cx="84978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497800" cy="54450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43"/>
          <p:cNvGrpSpPr/>
          <p:nvPr/>
        </p:nvGrpSpPr>
        <p:grpSpPr>
          <a:xfrm>
            <a:off x="250920" y="260280"/>
            <a:ext cx="8785080" cy="6048360"/>
            <a:chOff x="250920" y="260280"/>
            <a:chExt cx="8785080" cy="6048360"/>
          </a:xfrm>
        </p:grpSpPr>
        <p:sp>
          <p:nvSpPr>
            <p:cNvPr id="503" name="Rectangle 14"/>
            <p:cNvSpPr/>
            <p:nvPr/>
          </p:nvSpPr>
          <p:spPr>
            <a:xfrm>
              <a:off x="2124000" y="260280"/>
              <a:ext cx="518472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правления деятель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5"/>
            <p:cNvSpPr/>
            <p:nvPr/>
          </p:nvSpPr>
          <p:spPr>
            <a:xfrm>
              <a:off x="250920" y="1484280"/>
              <a:ext cx="2016000" cy="2665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медицинск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азличные виды массажа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индивидуальные занятия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групповые занятия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(кинезотерапия, зарядк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 элемент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логаритмики, бесед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нсультирование и др.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учение родител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лементам самомассажа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6"/>
            <p:cNvSpPr/>
            <p:nvPr/>
          </p:nvSpPr>
          <p:spPr>
            <a:xfrm>
              <a:off x="2484360" y="1484280"/>
              <a:ext cx="2016360" cy="2665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едагогическо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занятия на развит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мелкой моторики рук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обучение навыка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амообслуживания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игротерапия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обучение основ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домоводства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консультация родител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 вопросам семей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оспитания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17"/>
            <p:cNvSpPr/>
            <p:nvPr/>
          </p:nvSpPr>
          <p:spPr>
            <a:xfrm>
              <a:off x="4788000" y="1484280"/>
              <a:ext cx="2160360" cy="2665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циаль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сихологическ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психодиагностика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психологическая коррекция;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психологические тренинги;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психологическ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консультирование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оказание разносторон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сихологической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мощи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 консультация родителей;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18"/>
            <p:cNvSpPr/>
            <p:nvPr/>
          </p:nvSpPr>
          <p:spPr>
            <a:xfrm>
              <a:off x="7093080" y="1484280"/>
              <a:ext cx="1942920" cy="2665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оциокультурно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-проведение праздник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рганизация совмест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выездов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9"/>
            <p:cNvSpPr/>
            <p:nvPr/>
          </p:nvSpPr>
          <p:spPr>
            <a:xfrm>
              <a:off x="4572000" y="7650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0"/>
            <p:cNvSpPr/>
            <p:nvPr/>
          </p:nvSpPr>
          <p:spPr>
            <a:xfrm>
              <a:off x="971640" y="1125360"/>
              <a:ext cx="72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1"/>
            <p:cNvSpPr/>
            <p:nvPr/>
          </p:nvSpPr>
          <p:spPr>
            <a:xfrm>
              <a:off x="971640" y="112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2"/>
            <p:cNvSpPr/>
            <p:nvPr/>
          </p:nvSpPr>
          <p:spPr>
            <a:xfrm>
              <a:off x="3419640" y="112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3"/>
            <p:cNvSpPr/>
            <p:nvPr/>
          </p:nvSpPr>
          <p:spPr>
            <a:xfrm>
              <a:off x="5651640" y="112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4"/>
            <p:cNvSpPr/>
            <p:nvPr/>
          </p:nvSpPr>
          <p:spPr>
            <a:xfrm>
              <a:off x="8172360" y="112536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25"/>
            <p:cNvSpPr/>
            <p:nvPr/>
          </p:nvSpPr>
          <p:spPr>
            <a:xfrm>
              <a:off x="684360" y="4724280"/>
              <a:ext cx="2449440" cy="15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ализ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абилитацио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рамм в отделен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абилит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«Голубка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6"/>
            <p:cNvSpPr/>
            <p:nvPr/>
          </p:nvSpPr>
          <p:spPr>
            <a:xfrm>
              <a:off x="3492360" y="4724280"/>
              <a:ext cx="2519640" cy="151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каз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онсультативн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мощи специалистами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ходящими в соста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обильной бриг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27"/>
            <p:cNvSpPr/>
            <p:nvPr/>
          </p:nvSpPr>
          <p:spPr>
            <a:xfrm>
              <a:off x="6372360" y="4724280"/>
              <a:ext cx="24476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ализац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абилитацио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рограмм на до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8"/>
            <p:cNvSpPr/>
            <p:nvPr/>
          </p:nvSpPr>
          <p:spPr>
            <a:xfrm>
              <a:off x="125892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33"/>
            <p:cNvSpPr/>
            <p:nvPr/>
          </p:nvSpPr>
          <p:spPr>
            <a:xfrm>
              <a:off x="341964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34"/>
            <p:cNvSpPr/>
            <p:nvPr/>
          </p:nvSpPr>
          <p:spPr>
            <a:xfrm>
              <a:off x="572436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35"/>
            <p:cNvSpPr/>
            <p:nvPr/>
          </p:nvSpPr>
          <p:spPr>
            <a:xfrm>
              <a:off x="8028000" y="41497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36"/>
            <p:cNvSpPr/>
            <p:nvPr/>
          </p:nvSpPr>
          <p:spPr>
            <a:xfrm>
              <a:off x="1258920" y="4292640"/>
              <a:ext cx="676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37"/>
            <p:cNvSpPr/>
            <p:nvPr/>
          </p:nvSpPr>
          <p:spPr>
            <a:xfrm>
              <a:off x="4500720" y="429264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38"/>
            <p:cNvSpPr/>
            <p:nvPr/>
          </p:nvSpPr>
          <p:spPr>
            <a:xfrm>
              <a:off x="1692360" y="4437000"/>
              <a:ext cx="583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40"/>
            <p:cNvSpPr/>
            <p:nvPr/>
          </p:nvSpPr>
          <p:spPr>
            <a:xfrm>
              <a:off x="169236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42"/>
            <p:cNvSpPr/>
            <p:nvPr/>
          </p:nvSpPr>
          <p:spPr>
            <a:xfrm>
              <a:off x="75247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педагогическая реабили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дагогическая корре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ятия на развитие мелкой моторики р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навыкам самообслужи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тера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основам домовод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S7302241"/>
          <p:cNvPicPr/>
          <p:nvPr/>
        </p:nvPicPr>
        <p:blipFill>
          <a:blip r:embed="rId1"/>
          <a:stretch/>
        </p:blipFill>
        <p:spPr>
          <a:xfrm>
            <a:off x="0" y="422100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S7302101"/>
          <p:cNvPicPr/>
          <p:nvPr/>
        </p:nvPicPr>
        <p:blipFill>
          <a:blip r:embed="rId2"/>
          <a:stretch/>
        </p:blipFill>
        <p:spPr>
          <a:xfrm>
            <a:off x="2627280" y="4159080"/>
            <a:ext cx="3598920" cy="26989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S7302179"/>
          <p:cNvPicPr/>
          <p:nvPr/>
        </p:nvPicPr>
        <p:blipFill>
          <a:blip r:embed="rId3"/>
          <a:stretch/>
        </p:blipFill>
        <p:spPr>
          <a:xfrm>
            <a:off x="5796000" y="3284640"/>
            <a:ext cx="3097080" cy="223200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овое оборудов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S7302625"/>
          <p:cNvPicPr/>
          <p:nvPr/>
        </p:nvPicPr>
        <p:blipFill>
          <a:blip r:embed="rId1"/>
          <a:stretch/>
        </p:blipFill>
        <p:spPr>
          <a:xfrm>
            <a:off x="900000" y="1125360"/>
            <a:ext cx="3840120" cy="2880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S7302611"/>
          <p:cNvPicPr/>
          <p:nvPr/>
        </p:nvPicPr>
        <p:blipFill>
          <a:blip r:embed="rId2"/>
          <a:stretch/>
        </p:blipFill>
        <p:spPr>
          <a:xfrm>
            <a:off x="5076720" y="1557360"/>
            <a:ext cx="3840120" cy="2879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S7302612"/>
          <p:cNvPicPr/>
          <p:nvPr/>
        </p:nvPicPr>
        <p:blipFill>
          <a:blip r:embed="rId3"/>
          <a:stretch/>
        </p:blipFill>
        <p:spPr>
          <a:xfrm>
            <a:off x="5435640" y="4365720"/>
            <a:ext cx="3840120" cy="24922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4"/>
          <a:stretch/>
        </p:blipFill>
        <p:spPr>
          <a:xfrm>
            <a:off x="3132000" y="3978360"/>
            <a:ext cx="3384720" cy="2879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S7302110"/>
          <p:cNvPicPr/>
          <p:nvPr/>
        </p:nvPicPr>
        <p:blipFill>
          <a:blip r:embed="rId5"/>
          <a:stretch/>
        </p:blipFill>
        <p:spPr>
          <a:xfrm>
            <a:off x="108000" y="3978360"/>
            <a:ext cx="3168720" cy="287964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о-медицинская реабилит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661240" cy="84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чные виды массаж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заня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ые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инезотерапия, зарядка с элементами логаритмики, беседы, консультирование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0" descr="S7302054"/>
          <p:cNvPicPr/>
          <p:nvPr/>
        </p:nvPicPr>
        <p:blipFill>
          <a:blip r:embed="rId1"/>
          <a:stretch/>
        </p:blipFill>
        <p:spPr>
          <a:xfrm>
            <a:off x="4500720" y="3975120"/>
            <a:ext cx="4465440" cy="288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1" descr="S7302055"/>
          <p:cNvPicPr/>
          <p:nvPr/>
        </p:nvPicPr>
        <p:blipFill>
          <a:blip r:embed="rId2"/>
          <a:stretch/>
        </p:blipFill>
        <p:spPr>
          <a:xfrm>
            <a:off x="165240" y="3716280"/>
            <a:ext cx="2404800" cy="31417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SDC10022"/>
          <p:cNvPicPr/>
          <p:nvPr/>
        </p:nvPicPr>
        <p:blipFill>
          <a:blip r:embed="rId1"/>
          <a:stretch/>
        </p:blipFill>
        <p:spPr>
          <a:xfrm>
            <a:off x="0" y="0"/>
            <a:ext cx="5977080" cy="3672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SDC10025"/>
          <p:cNvPicPr/>
          <p:nvPr/>
        </p:nvPicPr>
        <p:blipFill>
          <a:blip r:embed="rId2"/>
          <a:stretch/>
        </p:blipFill>
        <p:spPr>
          <a:xfrm>
            <a:off x="2627280" y="3689280"/>
            <a:ext cx="6302520" cy="3168720"/>
          </a:xfrm>
          <a:prstGeom prst="rect">
            <a:avLst/>
          </a:prstGeom>
          <a:ln w="0">
            <a:noFill/>
          </a:ln>
        </p:spPr>
      </p:pic>
    </p:spTree>
  </p:cSld>
  <p:transition advTm="13000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7T07:57:15Z</dcterms:created>
  <dc:creator>Голубка</dc:creator>
  <dc:description/>
  <dc:language>en-US</dc:language>
  <cp:lastModifiedBy>PVV</cp:lastModifiedBy>
  <dcterms:modified xsi:type="dcterms:W3CDTF">2011-02-21T04:38:07Z</dcterms:modified>
  <cp:revision>31</cp:revision>
  <dc:subject/>
  <dc:title>Муниципальное </dc:title>
</cp:coreProperties>
</file>